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6F2-3D21-4737-9A9E-E4BAB3AB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759-D051-498F-B124-302DE7D3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67F-3942-4DFF-8B8F-3AC981C6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1E9-BFE6-4135-A804-C7D6EE6E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214-5E4F-4FD9-9103-2F186980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960-0DEA-46D1-99D9-6BA1451C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49F-849B-41E1-86D9-59A691E7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516-01F1-46B6-8EA9-ABDCA90B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E51-CC5C-4BF0-9315-31D54BD6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53B-3ACA-4C9F-B474-5A104110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B56-FF1E-4357-93BD-1B1CEDE5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E23-9F86-4CC8-86C4-442F721C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D37E-5BEA-4A83-A6A5-6D3E239AC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 chicken embryo’s hear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oal: connection shear stress and growth error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Method: experiment and CFD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Experiment: shear responsive gen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CFD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Remaining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Properties of embryonal hea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nalytical results for curved low Re case collapsible tube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Specific info on materi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Info on embryonal tissu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visco-elastic heart muscle parameters for embryonal tissu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Hills model for embryonal hea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What data are reliable (depending on date etc)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sources of data available (journal, www)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art geomet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D=0.3m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Re=1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o = 0.4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Dn = 0.1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blood: N-Newt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wall: complica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embryonal vs adul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art geometry: early sta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Geomerty depends on stag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early: U-tub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3-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peristaltic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heart1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30193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15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art geometry: later sta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More complica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More (small) detail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Standing wav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kippenhart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419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CFD approach: commerci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Commercial FV  CFX/Flu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CAD/CAM--solver--visualise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CAD/CAM: not flexibl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visualiser: bug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ProEngineer  Tecplo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Communication ..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3920" y="2362320"/>
            <a:ext cx="3505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heart4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19112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lternative: our own co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Structured FV with moving gri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Virtual boundary metho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Momentum term in 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artesian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795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Pre-scribed motion of wal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Extension: elastic wall - spring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3733920" cy="3386160"/>
          </a:xfrm>
          <a:prstGeom prst="rect">
            <a:avLst/>
          </a:prstGeom>
          <a:ln w="0">
            <a:noFill/>
          </a:ln>
        </p:spPr>
      </p:pic>
      <p:pic>
        <p:nvPicPr>
          <p:cNvPr id="66" name="cyltria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3581640" cy="1374480"/>
          </a:xfrm>
          <a:prstGeom prst="rect">
            <a:avLst/>
          </a:prstGeom>
          <a:ln w="0">
            <a:noFill/>
          </a:ln>
        </p:spPr>
      </p:pic>
      <p:pic>
        <p:nvPicPr>
          <p:cNvPr id="67" name="shade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9718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nalytical approac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1-D lumped paramet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low R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low W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low D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large deformatio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8:22:31Z</dcterms:created>
  <dc:creator>dutw1456</dc:creator>
  <dc:description/>
  <dc:language>en-US</dc:language>
  <cp:lastModifiedBy>dutw1456</cp:lastModifiedBy>
  <dcterms:modified xsi:type="dcterms:W3CDTF">2002-11-26T09:46:05Z</dcterms:modified>
  <cp:revision>16</cp:revision>
  <dc:subject/>
  <dc:title>No Slide Title</dc:title>
</cp:coreProperties>
</file>